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BB4-E369-4E52-829C-E07E7459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393-4CD8-4A1F-BABB-5AFCA77F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DD0-0B38-4336-B0FB-240FFDC2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29D-3657-46F4-9577-3F0E0722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510E-C14E-4AA2-9533-D90932D8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835-6DF5-4F62-ABC6-9E274E3E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7D9-F865-4566-BEE6-ABD6006C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9B2-E3DA-4923-A617-DF03230D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C19D-1B17-47DE-9556-F0E08EDA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017-A666-4C9C-B7DB-E372A776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2A2-7A07-4B83-84CE-77F135B0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4C2-31A1-40B2-9481-657EC546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431A-1534-4C92-B355-81D01C347C6C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11239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ie 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493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HW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Xin Juan S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SW Yang Yong Qi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48704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6800" y="1482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 /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0080" y="146376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Aarlborg HW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3520" y="1268280"/>
            <a:ext cx="2027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/Shanghai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Project Team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"/>
          <p:cNvSpPr/>
          <p:nvPr/>
        </p:nvSpPr>
        <p:spPr>
          <a:xfrm>
            <a:off x="170640" y="80964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tatus 21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3581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6767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05440" y="3686040"/>
            <a:ext cx="0" cy="3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48200" y="3676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53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1048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55284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840" y="467676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784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960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7640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2896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0960" y="1924200"/>
            <a:ext cx="0" cy="77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7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2705040"/>
            <a:ext cx="822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947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O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8480" y="3941640"/>
            <a:ext cx="79200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3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. Hil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76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623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0667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45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813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88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248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SO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.L. Thom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4760" y="2957400"/>
            <a:ext cx="7923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S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Yang Y.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8588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Q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Sonderga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M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. P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79960" y="295740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i Y.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ei X.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1480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E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Svend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4352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012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CM/IM/D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Ha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067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8580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6961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4840" y="2967120"/>
            <a:ext cx="792360" cy="63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GRM R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Spr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10320" y="2967120"/>
            <a:ext cx="792360" cy="63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Maierho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1996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I2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0440" y="394164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1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J. Rie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91040" y="2705040"/>
            <a:ext cx="0" cy="12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9640" y="394164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Q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 X.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686040"/>
            <a:ext cx="17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3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. Burk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232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1 /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l. SW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456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rotoc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ck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71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quiremen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ang 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5600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M-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 Y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488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084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552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3868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F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Br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275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aseban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.B. 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P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. B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055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B.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6440" y="1541520"/>
            <a:ext cx="11811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oh K.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72080" y="1598760"/>
            <a:ext cx="971640" cy="563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.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968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ong X.Y.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.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049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n Y.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525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PM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Zhang 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72280" y="5865840"/>
            <a:ext cx="644400" cy="17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5520" y="6122880"/>
            <a:ext cx="644400" cy="17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BE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69040" y="6380280"/>
            <a:ext cx="644400" cy="17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KLF / M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627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Key Customer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103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69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75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Selma Samrowski</cp:lastModifiedBy>
  <dcterms:modified xsi:type="dcterms:W3CDTF">2006-02-21T17:27:03Z</dcterms:modified>
  <cp:revision>170</cp:revision>
  <dc:subject/>
  <dc:title>PowerPoint</dc:title>
</cp:coreProperties>
</file>